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06C0C-6241-448C-878F-1F37891AB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37AD1-9F9D-42F2-BDEB-2B35A0FC1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0004C-CEFB-4A78-96A0-D12CFC4BE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70230-C7BD-4CF6-9938-66EB560DA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43E42-2556-483C-B092-3852D1B84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7BCA2-9C4A-4D89-A4E0-04AECC1A0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C82FD-C019-4579-BDE3-A366ACC74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1F530-190C-447F-AFEB-0D795B5AA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5F662-9FB6-46F5-8D95-B952CBAB3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EA630-BBD9-490F-A406-C2B76637A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ACCFB-B08D-4FDA-A2BB-75DC14258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25F64-2EFA-4A20-B008-9C9757855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478C4-8649-4B70-B5C0-FA63E0B77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D0139-CEF2-4290-B199-B073E96C3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FF6CD-B6EA-4E85-8E61-E3E77E027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70D52-13C8-4CEA-83F6-104EA0447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133E5-E50C-4A1A-B93C-2FD2CB8C9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39E083-2AA2-44F8-92E9-A46B7B761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3773EA-F0DD-48E6-92FF-D097057F8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7DC6EC-3898-4819-9868-1AD3AD471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80D1A4-6787-4CDC-BAB5-9C3AE3ABC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382E36-2B64-4C45-AA5B-D4F02B1AC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1061D-69F6-45A8-8323-07CCEE0C9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4AFB31-DC1D-436B-AEF8-9DEF27ACE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C642A5-ABBE-4998-B050-F924E65AD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F230CB-BA96-4570-BCF9-880A531D8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24D87F-300A-4809-93AE-47142D0BC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B3789E-8B57-4DDD-B6BC-B483C0EFD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E23069-1C59-407C-8DFF-0878A0045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78F9F4-4AD1-4670-8AE1-7D86F3731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0CEC00-B5D2-4E4D-B6ED-A4BF72B5D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FAC48E-DE2E-4C10-A9C9-3CBAECBFD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7C609E-865F-45EE-A8EA-DB1F5C10D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82D10-9582-446F-ACCB-0327987ED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E7F502-2A06-4AE2-A162-6B88003BF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A98AEF-D0A1-4A08-8240-3F977327A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201361-525E-44EC-BDF5-0B26C4E18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9F5BBD-A132-4510-914F-98B962C63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4F217D-A648-4EE8-B309-5F1C1C66D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7522D9-FEFA-4D5B-A01B-A72AC6B7D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853B7E-6C1C-402F-BF99-215139B03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824BB7-6355-44D4-928E-F3E34721B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043AF0-831A-4035-8E26-748C4881A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75998-3213-4831-BBF9-AC86A032B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E8EE8-175E-4E21-AD82-60ECD0151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80713-2249-4188-AF3B-42CF1952F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97DA2-C1E8-43FF-9F53-A4E72C2AB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F3DF4-DEBC-47F1-ABE0-C5F1183BB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DBCC7-CDB3-450C-9259-E0CD7F80C9AA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A8BF5-71D2-4947-8E25-2FCDD3A1D8B5}" type="slidenum">
              <a:rPr b="0" lang="en-US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E799E-1E0C-4B69-8F6E-92F650CBFE3A}" type="slidenum">
              <a:rPr b="0" lang="en-US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143D8-B2D5-4881-B28E-09230B1F2A9F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Box 9"/>
          <p:cNvSpPr/>
          <p:nvPr/>
        </p:nvSpPr>
        <p:spPr>
          <a:xfrm>
            <a:off x="1676520" y="1828800"/>
            <a:ext cx="57909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bcTeacher"/>
              </a:rPr>
              <a:t>ixquick.com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Box 10"/>
          <p:cNvSpPr/>
          <p:nvPr/>
        </p:nvSpPr>
        <p:spPr>
          <a:xfrm>
            <a:off x="3124080" y="30481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y: Elsa Figuero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Overview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What is a meta-search engin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ackgroun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What is ixquick.com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411 on ixquick.com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How to search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arch result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Calibri"/>
              <a:buChar char="@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What is a Search Engine?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llows you to search engines and directories simultaneousl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t takes your query, do the seach and then integrates the result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2" name="Picture 2" descr=""/>
          <p:cNvPicPr/>
          <p:nvPr/>
        </p:nvPicPr>
        <p:blipFill>
          <a:blip r:embed="rId1"/>
          <a:srcRect l="68232" t="25354" r="1827" b="36457"/>
          <a:stretch/>
        </p:blipFill>
        <p:spPr>
          <a:xfrm>
            <a:off x="762120" y="1905120"/>
            <a:ext cx="6476760" cy="43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Background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rivate Compan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nded in 1998 by David Bodnick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ased in New York and the Netherland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2000- bought by a Dutch company - Surfboard Holding BV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4617b"/>
                </a:solidFill>
                <a:latin typeface="AbcTeacher"/>
              </a:rPr>
              <a:t>What is ixquick.com</a:t>
            </a:r>
            <a:endParaRPr b="0" lang="en-US" sz="6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6840" y="1752480"/>
            <a:ext cx="74674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Ixquick is the world's most powerful search engine employing the most advanced metasearch technology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More comprehensive search result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More accurate search result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Advanced Search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Global Internet Search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Power Search Refinement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Search from Anywher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Calibri"/>
              <a:buChar char="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411 on ixquick.com</a:t>
            </a:r>
            <a:br>
              <a:rPr sz="4500"/>
            </a:b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nnounced that it is developing an email servic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2009-no longer records IP address at al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2006- became the first meta-search engine to delete private details of its user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ll personal information deletes within 48 hou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Does not share users info with other search engin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How to search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0" name="Picture 2" descr=""/>
          <p:cNvPicPr/>
          <p:nvPr/>
        </p:nvPicPr>
        <p:blipFill>
          <a:blip r:embed="rId1"/>
          <a:srcRect l="20415" t="32918" r="25147" b="39867"/>
          <a:stretch/>
        </p:blipFill>
        <p:spPr>
          <a:xfrm>
            <a:off x="1066680" y="1676520"/>
            <a:ext cx="6705720" cy="2514600"/>
          </a:xfrm>
          <a:prstGeom prst="rect">
            <a:avLst/>
          </a:prstGeom>
          <a:ln w="0">
            <a:noFill/>
          </a:ln>
        </p:spPr>
      </p:pic>
      <p:cxnSp>
        <p:nvCxnSpPr>
          <p:cNvPr id="211" name="Straight Arrow Connector 5"/>
          <p:cNvCxnSpPr/>
          <p:nvPr/>
        </p:nvCxnSpPr>
        <p:spPr>
          <a:xfrm flipV="1">
            <a:off x="1980720" y="3276000"/>
            <a:ext cx="686520" cy="5338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Search Result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3" name="Picture 4" descr=""/>
          <p:cNvPicPr/>
          <p:nvPr/>
        </p:nvPicPr>
        <p:blipFill>
          <a:blip r:embed="rId1"/>
          <a:srcRect l="0" t="3617" r="2344" b="7087"/>
          <a:stretch/>
        </p:blipFill>
        <p:spPr>
          <a:xfrm>
            <a:off x="1066680" y="1447920"/>
            <a:ext cx="646596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6T18:26:55Z</dcterms:created>
  <dc:creator>ccstudent</dc:creator>
  <dc:description/>
  <dc:language>en-US</dc:language>
  <cp:lastModifiedBy>ccstudent</cp:lastModifiedBy>
  <dcterms:modified xsi:type="dcterms:W3CDTF">2011-03-05T14:19:47Z</dcterms:modified>
  <cp:revision>23</cp:revision>
  <dc:subject/>
  <dc:title>Slide 1</dc:title>
</cp:coreProperties>
</file>